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686-B817-412C-868F-82D7DD33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823-29A5-424D-A4B2-B04EBF9A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7E4-FE11-48CB-9711-19DB74F1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CF5-BC3F-4216-A55E-C4DE8E59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1A796-FE1A-4F09-A546-2CBD36A8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9075E-8A5E-4A28-A6D5-3706B664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8C933-CCD6-4953-B3D3-397CBAEA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11308-BE75-4A1D-927B-6486C9F7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75638-7BA6-479F-A92D-85DAB8BD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EBA27-0D8C-4157-95B5-C663F425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CEA2D-ABEE-4FD1-97F5-A3CDAECA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42E-D6CB-4D83-AE80-E4CDF12B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7BCDE-1C9E-41ED-8597-FB9F7FDD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F6EA2-CDEE-4302-9F04-E9BEE613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2204B-2337-4DE3-AD5F-C213B28F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7B768-69EE-43A1-9555-0AA8C284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5E191-3CD2-4675-A2D5-B4941300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36F-975F-44A7-A1C6-9AF1DC80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760-FAF2-44A8-B5B0-458BAF62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1DB-3E46-4620-9E5C-93894902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0AF-373F-41CB-9742-35B66F55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A49-BB99-477C-B622-58C9405A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F6B-4DFD-4455-B883-4EC3468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DB4-064B-42A0-9310-45BBB9B3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07CC-ADCE-4D38-8C3A-E99630D47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D0B0-D367-4F52-81BD-63D64F7F5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ing a Propos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r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verall Solu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1600200"/>
          <a:ext cx="8533800" cy="4525200"/>
        </p:xfrm>
        <a:graphic>
          <a:graphicData uri="http://schemas.openxmlformats.org/drawingml/2006/table">
            <a:tbl>
              <a:tblPr/>
              <a:tblGrid>
                <a:gridCol w="1231920"/>
                <a:gridCol w="2002680"/>
                <a:gridCol w="1895040"/>
                <a:gridCol w="1170720"/>
                <a:gridCol w="1170720"/>
                <a:gridCol w="1062720"/>
              </a:tblGrid>
              <a:tr h="113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ater Capacity (m³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 Capacity (m³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st Wa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st F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otal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KY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.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1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K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.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6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9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J'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8.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6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1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8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J De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.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3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35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SJJ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.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56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61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Value for 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905120"/>
          <a:ext cx="8229240" cy="4114080"/>
        </p:xfrm>
        <a:graphic>
          <a:graphicData uri="http://schemas.openxmlformats.org/drawingml/2006/table">
            <a:tbl>
              <a:tblPr/>
              <a:tblGrid>
                <a:gridCol w="1976400"/>
                <a:gridCol w="3212640"/>
                <a:gridCol w="3040200"/>
              </a:tblGrid>
              <a:tr h="68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ater Cost per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 Cost per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J D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8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SJJ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J'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KF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7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K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8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Value for Fo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905120"/>
          <a:ext cx="8229240" cy="4114080"/>
        </p:xfrm>
        <a:graphic>
          <a:graphicData uri="http://schemas.openxmlformats.org/drawingml/2006/table">
            <a:tbl>
              <a:tblPr/>
              <a:tblGrid>
                <a:gridCol w="1976400"/>
                <a:gridCol w="3212640"/>
                <a:gridCol w="3040200"/>
              </a:tblGrid>
              <a:tr h="68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ater Cost per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 Cost per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J'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J D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8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KF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7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SJJ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K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8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Value Tot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8520" cy="4114080"/>
        </p:xfrm>
        <a:graphic>
          <a:graphicData uri="http://schemas.openxmlformats.org/drawingml/2006/table">
            <a:tbl>
              <a:tblPr/>
              <a:tblGrid>
                <a:gridCol w="3134520"/>
                <a:gridCol w="5094000"/>
              </a:tblGrid>
              <a:tr h="68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otal cost per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J'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63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J D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0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KF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72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SJJ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16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K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836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ybe a combined effor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2320920"/>
          <a:ext cx="6324840" cy="2233440"/>
        </p:xfrm>
        <a:graphic>
          <a:graphicData uri="http://schemas.openxmlformats.org/drawingml/2006/table">
            <a:tbl>
              <a:tblPr/>
              <a:tblGrid>
                <a:gridCol w="3314880"/>
                <a:gridCol w="3009960"/>
              </a:tblGrid>
              <a:tr h="484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KFC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J Dev 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46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.84 m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$66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$2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$69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ality Built Water Stor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linder close to square sh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id concrete b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SJJ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02:12Z</dcterms:created>
  <dc:creator>Cameron</dc:creator>
  <dc:description/>
  <dc:language>en-US</dc:language>
  <cp:lastModifiedBy>Cameron</cp:lastModifiedBy>
  <dcterms:modified xsi:type="dcterms:W3CDTF">2008-12-03T12:22:19Z</dcterms:modified>
  <cp:revision>3</cp:revision>
  <dc:subject/>
  <dc:title>Writing a Proposal</dc:title>
</cp:coreProperties>
</file>